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camera.wav" ContentType="audio/x-wav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5C26-78CE-478C-A384-3B9EB00D6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CA7-2F13-491F-8C6A-48E23C13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E78F-BB92-42B6-A502-8BB8E71D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9F32-028E-4892-9B68-A7BD79A5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C62-CE9D-4E11-8998-37C9B74E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A5A1-1D2D-49A0-844B-E384D8FA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7A1D-DEB8-457F-97CD-26CB36BB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C41-1FC8-43F1-80E4-3ED6374F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5146-B896-4A7E-84BB-07C27B81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D9C-6401-4F4C-8BAF-3A597E7E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1493-EDD8-4FD1-9476-E669E058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6249-6597-4A78-A25D-14BF4FCB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6DB1-267F-4BA3-9720-DB9ADFB55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rj-socrates.com/Cartoon%2520Pics/Hanna%2520Barbera/Scooby%2520Doo/Scooby_304.gif&amp;imgrefurl=http://www.jrj-socrates.com/Cartoon%2520Pages/scooby_doo.htm&amp;h=300&amp;w=231&amp;sz=20&amp;hl=en&amp;start=36&amp;tbnid=OO%20" TargetMode="External"/><Relationship Id="rId2" Type="http://schemas.openxmlformats.org/officeDocument/2006/relationships/hyperlink" Target="http://images.google.com/imgres?imgurl=http://www.jrj-socrates.com/Cartoon%2520Pics/Hanna%2520Barbera/Scooby%2520Doo/Scooby_304.gif&amp;imgrefurl=http://www.jrj-socrates.com/Cartoon%2520Pages/scooby_doo.htm&amp;h=300&amp;w=231&amp;sz=20&amp;hl=en&amp;start=36&amp;tbnid=OO%20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3852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ang001a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5410440" cy="3625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14400" y="4419720"/>
            <a:ext cx="7086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Snap ITC"/>
              </a:rPr>
              <a:t>Scooby Snack Atta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Snap ITC"/>
              <a:ea typeface="Snap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28800" y="2666880"/>
            <a:ext cx="5410080" cy="350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676520" y="456840"/>
            <a:ext cx="5715000" cy="2209680"/>
          </a:xfrm>
          <a:custGeom>
            <a:avLst/>
            <a:gdLst>
              <a:gd name="textAreaLeft" fmla="*/ 1256760 w 5715000"/>
              <a:gd name="textAreaRight" fmla="*/ 4458240 w 5715000"/>
              <a:gd name="textAreaTop" fmla="*/ 486000 h 2209680"/>
              <a:gd name="textAreaBottom" fmla="*/ 17236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19520" y="281952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 x 5 = 3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819520" y="35812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 x 7 = 3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19520" y="434340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5 / 5 = 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19520" y="51814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 / 35 = 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 rot="5400000">
            <a:off x="-590760" y="2724120"/>
            <a:ext cx="28954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6708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362320" y="190512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477120" y="19810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28800" y="2666880"/>
            <a:ext cx="5410080" cy="350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676520" y="456840"/>
            <a:ext cx="5715000" cy="2209680"/>
          </a:xfrm>
          <a:custGeom>
            <a:avLst/>
            <a:gdLst>
              <a:gd name="textAreaLeft" fmla="*/ 1256760 w 5715000"/>
              <a:gd name="textAreaRight" fmla="*/ 4458240 w 5715000"/>
              <a:gd name="textAreaTop" fmla="*/ 486000 h 2209680"/>
              <a:gd name="textAreaBottom" fmla="*/ 17236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819520" y="281952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 + 7 = 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19520" y="35812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 + 0 = 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819520" y="434340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 - 0 = 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19520" y="51814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 - 7 = 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 rot="5400000">
            <a:off x="-1162080" y="3295440"/>
            <a:ext cx="40384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Y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26708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362320" y="19051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77120" y="19810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828800" y="2666880"/>
            <a:ext cx="5410080" cy="350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676520" y="456840"/>
            <a:ext cx="5715000" cy="2209680"/>
          </a:xfrm>
          <a:custGeom>
            <a:avLst/>
            <a:gdLst>
              <a:gd name="textAreaLeft" fmla="*/ 1256760 w 5715000"/>
              <a:gd name="textAreaRight" fmla="*/ 4458240 w 5715000"/>
              <a:gd name="textAreaTop" fmla="*/ 486000 h 2209680"/>
              <a:gd name="textAreaBottom" fmla="*/ 17236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819520" y="281952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 x 7 = 6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19520" y="35812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 x 9 = 6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819520" y="434340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3 / 9 = 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819520" y="51814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 / 63 = 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 rot="5400000">
            <a:off x="-590760" y="2724120"/>
            <a:ext cx="28954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26708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362320" y="190512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477120" y="19810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41460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Scooby-Doo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2314800" cy="2457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971800" y="4419720"/>
            <a:ext cx="609480" cy="549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971800" y="3733920"/>
            <a:ext cx="609480" cy="549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609840" cy="549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4343400" y="5105520"/>
            <a:ext cx="609480" cy="549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343400" y="4495680"/>
            <a:ext cx="609480" cy="549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3048120" y="5029200"/>
            <a:ext cx="609480" cy="549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609480" y="1143000"/>
            <a:ext cx="7925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elp Scooby make fact famil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th the snacks on his plate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6019920" y="3886200"/>
            <a:ext cx="609480" cy="549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4495680" y="3809880"/>
            <a:ext cx="609840" cy="549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5867280" y="5257800"/>
            <a:ext cx="609840" cy="549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1"/>
          <a:stretch/>
        </p:blipFill>
        <p:spPr>
          <a:xfrm>
            <a:off x="7620120" y="4114800"/>
            <a:ext cx="609480" cy="549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2"/>
          <a:stretch/>
        </p:blipFill>
        <p:spPr>
          <a:xfrm>
            <a:off x="7467480" y="5334120"/>
            <a:ext cx="609840" cy="549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3"/>
          <a:stretch/>
        </p:blipFill>
        <p:spPr>
          <a:xfrm>
            <a:off x="7543800" y="4724280"/>
            <a:ext cx="60948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41460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Scooby-Doo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2314800" cy="2457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971800" y="4419720"/>
            <a:ext cx="609480" cy="549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971800" y="3733920"/>
            <a:ext cx="609480" cy="549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609840" cy="549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4343400" y="5105520"/>
            <a:ext cx="609480" cy="549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4343400" y="4495680"/>
            <a:ext cx="609480" cy="549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7"/>
          <a:stretch/>
        </p:blipFill>
        <p:spPr>
          <a:xfrm>
            <a:off x="3048120" y="5029200"/>
            <a:ext cx="609480" cy="549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609480" y="304920"/>
            <a:ext cx="79250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 groups of 3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 x 3 = 1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... our numbers are 3,4,and 12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6019920" y="3886200"/>
            <a:ext cx="609480" cy="549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4495680" y="3809880"/>
            <a:ext cx="609840" cy="549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5867280" y="5257800"/>
            <a:ext cx="609840" cy="549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7620120" y="4114800"/>
            <a:ext cx="609480" cy="549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2"/>
          <a:stretch/>
        </p:blipFill>
        <p:spPr>
          <a:xfrm>
            <a:off x="7467480" y="5334120"/>
            <a:ext cx="609840" cy="549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3"/>
          <a:stretch/>
        </p:blipFill>
        <p:spPr>
          <a:xfrm>
            <a:off x="7543800" y="4724280"/>
            <a:ext cx="60948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828800" y="2666880"/>
            <a:ext cx="5410080" cy="350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676520" y="456840"/>
            <a:ext cx="5715000" cy="2209680"/>
          </a:xfrm>
          <a:custGeom>
            <a:avLst/>
            <a:gdLst>
              <a:gd name="textAreaLeft" fmla="*/ 1256760 w 5715000"/>
              <a:gd name="textAreaRight" fmla="*/ 4458240 w 5715000"/>
              <a:gd name="textAreaTop" fmla="*/ 486000 h 2209680"/>
              <a:gd name="textAreaBottom" fmla="*/ 17236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819520" y="281952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 x 3 = 1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819520" y="35812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 x 4 = 1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819520" y="434340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 / 4 =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19520" y="51814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 / 3 = 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267080" y="609480"/>
            <a:ext cx="533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438280" y="1752480"/>
            <a:ext cx="685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477120" y="19810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1" name="Scooby-Doo" descr=""/>
          <p:cNvPicPr/>
          <p:nvPr/>
        </p:nvPicPr>
        <p:blipFill>
          <a:blip r:embed="rId1"/>
          <a:stretch/>
        </p:blipFill>
        <p:spPr>
          <a:xfrm>
            <a:off x="0" y="4876920"/>
            <a:ext cx="1596960" cy="1695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809880" y="1295280"/>
            <a:ext cx="16002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 rot="5400000">
            <a:off x="1184760" y="2853360"/>
            <a:ext cx="30016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MPB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95480" y="2971800"/>
            <a:ext cx="2657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5cbf"/>
                    </a:gs>
                    <a:gs pos="5000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oduction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5cbf"/>
                  </a:gs>
                  <a:gs pos="5000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5" name="">
            <a:hlinkClick r:id="rId1"/>
          </p:cNvPr>
          <p:cNvSpPr/>
          <p:nvPr/>
        </p:nvSpPr>
        <p:spPr>
          <a:xfrm>
            <a:off x="416736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42670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2133720"/>
            <a:ext cx="8096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1460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ooby-Doo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314800" cy="2457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52680" y="3505320"/>
            <a:ext cx="609840" cy="549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657600" y="2819520"/>
            <a:ext cx="609480" cy="549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400800" y="3276720"/>
            <a:ext cx="609480" cy="549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562720" y="3200400"/>
            <a:ext cx="609480" cy="54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8120" y="2819520"/>
            <a:ext cx="2361960" cy="1904760"/>
          </a:xfrm>
          <a:prstGeom prst="donut">
            <a:avLst>
              <a:gd name="adj" fmla="val 25000"/>
            </a:avLst>
          </a:prstGeom>
          <a:noFill/>
          <a:ln w="93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495680" y="3352680"/>
            <a:ext cx="609840" cy="54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4114800" y="3962520"/>
            <a:ext cx="609480" cy="549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7848720" y="304920"/>
            <a:ext cx="7239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4</a:t>
            </a:r>
            <a:endParaRPr b="0" lang="en-US" sz="24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924680" y="1752480"/>
            <a:ext cx="7239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</a:t>
            </a:r>
            <a:endParaRPr b="0" lang="en-US" sz="24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924680" y="3505320"/>
            <a:ext cx="7239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6</a:t>
            </a:r>
            <a:endParaRPr b="0" lang="en-US" sz="24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010280" y="2438280"/>
            <a:ext cx="657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+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91120" y="5715000"/>
            <a:ext cx="6094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=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19320" y="5105520"/>
            <a:ext cx="7239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4</a:t>
            </a:r>
            <a:endParaRPr b="0" lang="en-US" sz="24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33720" y="5638680"/>
            <a:ext cx="657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+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124080" y="5105520"/>
            <a:ext cx="7239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</a:t>
            </a:r>
            <a:endParaRPr b="0" lang="en-US" sz="24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391520" y="3200400"/>
            <a:ext cx="17524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___</a:t>
            </a:r>
            <a:endParaRPr b="0" lang="en-US" sz="2400" spc="1" strike="noStrike">
              <a:ln w="0">
                <a:noFill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257800" y="5181480"/>
            <a:ext cx="7239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6</a:t>
            </a:r>
            <a:endParaRPr b="0" lang="en-US" sz="2400" spc="1" strike="noStrike">
              <a:ln w="0">
                <a:noFill/>
              </a:ln>
              <a:solidFill>
                <a:srgbClr val="00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049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s can be addition and subtraction, or multiplication and division.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cooby-Doo" descr=""/>
          <p:cNvPicPr/>
          <p:nvPr/>
        </p:nvPicPr>
        <p:blipFill>
          <a:blip r:embed="rId1"/>
          <a:stretch/>
        </p:blipFill>
        <p:spPr>
          <a:xfrm>
            <a:off x="380880" y="4191120"/>
            <a:ext cx="2314800" cy="2457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895480" y="5867280"/>
            <a:ext cx="60984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657600" y="5562720"/>
            <a:ext cx="60948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4572000" y="5943600"/>
            <a:ext cx="60948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5410080" y="5562720"/>
            <a:ext cx="609840" cy="54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6248520" y="6095880"/>
            <a:ext cx="609480" cy="549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8120" y="1905120"/>
            <a:ext cx="5410080" cy="350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895480" y="151200"/>
            <a:ext cx="5715000" cy="1752840"/>
          </a:xfrm>
          <a:custGeom>
            <a:avLst/>
            <a:gdLst>
              <a:gd name="textAreaLeft" fmla="*/ 1256760 w 5715000"/>
              <a:gd name="textAreaRight" fmla="*/ 4458240 w 5715000"/>
              <a:gd name="textAreaTop" fmla="*/ 385200 h 1752840"/>
              <a:gd name="textAreaBottom" fmla="*/ 136764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562720" y="22860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81280" y="1219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20120" y="12193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038480" y="213372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 + 3 = 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038480" y="28954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 + 2 = 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114800" y="373392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 - 2 =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038480" y="457200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 - 3 = 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cooby-Doo" descr=""/>
          <p:cNvPicPr/>
          <p:nvPr/>
        </p:nvPicPr>
        <p:blipFill>
          <a:blip r:embed="rId1"/>
          <a:stretch/>
        </p:blipFill>
        <p:spPr>
          <a:xfrm>
            <a:off x="380880" y="4191120"/>
            <a:ext cx="2314800" cy="2457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048120" y="6095880"/>
            <a:ext cx="609480" cy="549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048120" y="5486400"/>
            <a:ext cx="609480" cy="549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886200" y="6095880"/>
            <a:ext cx="609480" cy="549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038480" y="5562720"/>
            <a:ext cx="609840" cy="549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4876920" y="6095880"/>
            <a:ext cx="609480" cy="549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8120" y="1905120"/>
            <a:ext cx="5410080" cy="350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895480" y="151200"/>
            <a:ext cx="5715000" cy="1752840"/>
          </a:xfrm>
          <a:custGeom>
            <a:avLst/>
            <a:gdLst>
              <a:gd name="textAreaLeft" fmla="*/ 1256760 w 5715000"/>
              <a:gd name="textAreaRight" fmla="*/ 4458240 w 5715000"/>
              <a:gd name="textAreaTop" fmla="*/ 385200 h 1752840"/>
              <a:gd name="textAreaBottom" fmla="*/ 136764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562720" y="228600"/>
            <a:ext cx="53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81280" y="12193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20120" y="121932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038480" y="213372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 + 8 = 1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038480" y="28954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 + 2 = 1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114800" y="373392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 - 2 = 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038480" y="457200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 - 8 = 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4876920" y="5562720"/>
            <a:ext cx="609480" cy="549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5638680" y="5562720"/>
            <a:ext cx="609840" cy="549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5638680" y="6095880"/>
            <a:ext cx="609840" cy="549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6553080" y="5562720"/>
            <a:ext cx="609840" cy="54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1"/>
          <a:stretch/>
        </p:blipFill>
        <p:spPr>
          <a:xfrm>
            <a:off x="6477120" y="6095880"/>
            <a:ext cx="60948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8080" y="1219320"/>
            <a:ext cx="815364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Is it a fact family 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62120" y="533520"/>
            <a:ext cx="7391160" cy="53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fact family ha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ur equations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wo are multiplication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wo are division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2520" y="1143000"/>
            <a:ext cx="82389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nly three numbers can make u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ach equation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ach equation must be true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28800" y="2666880"/>
            <a:ext cx="5410080" cy="350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676520" y="456840"/>
            <a:ext cx="5715000" cy="2209680"/>
          </a:xfrm>
          <a:custGeom>
            <a:avLst/>
            <a:gdLst>
              <a:gd name="textAreaLeft" fmla="*/ 1256760 w 5715000"/>
              <a:gd name="textAreaRight" fmla="*/ 4458240 w 5715000"/>
              <a:gd name="textAreaTop" fmla="*/ 486000 h 2209680"/>
              <a:gd name="textAreaBottom" fmla="*/ 17236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819520" y="281952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 x 6 = 4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19520" y="35812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 + 8 = 4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19520" y="434340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8 / 8 = 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19520" y="51814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8 / 6 = 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 rot="5400000">
            <a:off x="-1162080" y="3295440"/>
            <a:ext cx="40384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Y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67080" y="6094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362320" y="190512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77120" y="19810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828800" y="2666880"/>
            <a:ext cx="5410080" cy="350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76520" y="456840"/>
            <a:ext cx="5715000" cy="2209680"/>
          </a:xfrm>
          <a:custGeom>
            <a:avLst/>
            <a:gdLst>
              <a:gd name="textAreaLeft" fmla="*/ 1256760 w 5715000"/>
              <a:gd name="textAreaRight" fmla="*/ 4458240 w 5715000"/>
              <a:gd name="textAreaTop" fmla="*/ 486000 h 2209680"/>
              <a:gd name="textAreaBottom" fmla="*/ 17236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19520" y="281952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 x 6 = 6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819520" y="35812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 x 10 = 6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19520" y="4343400"/>
            <a:ext cx="320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0 / 5 = 1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819520" y="5181480"/>
            <a:ext cx="32004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0 / 12 = 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 rot="5400000">
            <a:off x="-667080" y="2800440"/>
            <a:ext cx="30481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ff66"/>
                    </a:gs>
                  </a:gsLst>
                  <a:lin ang="5400000"/>
                </a:gradFill>
                <a:latin typeface="Arial Black"/>
              </a:rPr>
              <a:t>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ff66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67080" y="609480"/>
            <a:ext cx="533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362320" y="1905120"/>
            <a:ext cx="91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477120" y="198108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03:07:59Z</dcterms:created>
  <dc:creator>Michelle Blanchard</dc:creator>
  <dc:description/>
  <dc:language>en-US</dc:language>
  <cp:lastModifiedBy> </cp:lastModifiedBy>
  <dcterms:modified xsi:type="dcterms:W3CDTF">2008-04-29T17:30:40Z</dcterms:modified>
  <cp:revision>9</cp:revision>
  <dc:subject/>
  <dc:title>PowerPoint Presentation</dc:title>
</cp:coreProperties>
</file>